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BC5-AACE-4A41-8E7B-D4114352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00A-3AB2-4510-ADD7-093CE86D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A22-A5E8-4BAC-BF4B-B21F1B21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639-30A2-4E17-BDE2-C10DEA1D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D76E-32EA-4F55-ABB2-7FD8F0DF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3AF7-D3B3-48DE-8E78-80AFE638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4A4B-9014-4217-B1D8-6825AB4B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DD6A-2B04-4E81-A228-716051BF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6AFA-BF89-41D6-AF2D-926BAA70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50FA-6D31-4BC2-B0CF-FCA35081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1EE5-F21D-4198-8AF5-E58F9C3D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8D3-C85A-41E8-82F3-831813E1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873E-6EA5-46DC-ACE3-BD6D58F8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75A8-36CB-4E15-ADA9-8673E94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D2D4-C292-4DE7-8139-2B60AE84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EF28-65C2-4598-8F1B-583DAE23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7834-5A71-40D7-B8A3-D893C9F5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C72-7513-4A16-BF19-77D1B11A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862-9048-4AD9-B968-EDFFD04F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F4F-B8AC-4006-A78F-16A79590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499-E660-4FE0-B404-9718FE74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642-27C6-4A00-BEA8-EEF1163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8A4-1E36-4F05-87D0-7C6F8492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90E-8AC5-4334-8398-8E1233EA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729F-49B5-4E73-A74A-58BD469FE2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6B85-FCD0-452A-84BD-BF755C73E7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rightgroup.com/download/cp/g7_geometry.pdf" TargetMode="External"/><Relationship Id="rId3" Type="http://schemas.openxmlformats.org/officeDocument/2006/relationships/hyperlink" Target="http://www.eduplace.com/state/nc/hmm/tools/6.html" TargetMode="External"/><Relationship Id="rId4" Type="http://schemas.openxmlformats.org/officeDocument/2006/relationships/hyperlink" Target="http://www.tki.org.nz/r/esol/esolonline/primary_mainstream/classroom/units/foil_fun/home_e.php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ometric Sha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8960" y="54860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ed by Jane Lo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048120"/>
            <a:ext cx="1218960" cy="12952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505320"/>
            <a:ext cx="914400" cy="18288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9400200">
            <a:off x="5562360" y="3352320"/>
            <a:ext cx="1295280" cy="6098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590920"/>
            <a:ext cx="121932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267080"/>
            <a:ext cx="20574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570200">
            <a:off x="5333400" y="2437920"/>
            <a:ext cx="1066680" cy="685800"/>
          </a:xfrm>
          <a:prstGeom prst="parallelogram">
            <a:avLst>
              <a:gd name="adj" fmla="val 388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ebsites for Additional Expl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quivalent Nets for Rectangular Prisms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rightgroup.com/download/cp/g7_geometry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s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eduplace.com/state/nc/hmm/tools/6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OL On-Line Foil Fu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tki.org.nz/r/esol/esolonline/primary_mainstream/classroom/units/foil_fun/home_e.ph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ike or Differen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in how cones and cylinders are alike and differ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what ways are right prisms and regular pyramids alike? differ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29200" y="1849320"/>
            <a:ext cx="1752480" cy="157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20244600">
            <a:off x="7009920" y="3886200"/>
            <a:ext cx="1765440" cy="1962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20120" y="1828800"/>
            <a:ext cx="1143000" cy="1371600"/>
          </a:xfrm>
          <a:prstGeom prst="can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SquarePyramid"/>
          <p:cNvPicPr/>
          <p:nvPr/>
        </p:nvPicPr>
        <p:blipFill>
          <a:blip r:embed="rId4"/>
          <a:stretch/>
        </p:blipFill>
        <p:spPr>
          <a:xfrm>
            <a:off x="4724280" y="4038480"/>
            <a:ext cx="19814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662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ne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a two-dimensional figure that, when folded, forms a three-dimensional figu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3733920"/>
            <a:ext cx="990720" cy="990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962520" y="3048120"/>
            <a:ext cx="1828800" cy="2438280"/>
            <a:chOff x="3962520" y="3048120"/>
            <a:chExt cx="1828800" cy="2438280"/>
          </a:xfrm>
        </p:grpSpPr>
        <p:sp>
          <p:nvSpPr>
            <p:cNvPr id="103" name=""/>
            <p:cNvSpPr/>
            <p:nvPr/>
          </p:nvSpPr>
          <p:spPr>
            <a:xfrm>
              <a:off x="4572000" y="304812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365760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62520" y="365760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267080"/>
              <a:ext cx="609480" cy="6098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1480" y="3657600"/>
              <a:ext cx="60984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487692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167652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Rectangular Pr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05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net for the yellow rectangular prism is illustrated below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you find other nets of the prism below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09680" y="4038480"/>
            <a:ext cx="45482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宋体"/>
              </a:rPr>
              <a:t>Attributes of a Cub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2133720"/>
            <a:ext cx="7497000" cy="2406600"/>
            <a:chOff x="1143000" y="2133720"/>
            <a:chExt cx="7497000" cy="2406600"/>
          </a:xfrm>
        </p:grpSpPr>
        <p:sp>
          <p:nvSpPr>
            <p:cNvPr id="115" name=""/>
            <p:cNvSpPr/>
            <p:nvPr/>
          </p:nvSpPr>
          <p:spPr>
            <a:xfrm>
              <a:off x="3591360" y="2940120"/>
              <a:ext cx="1558080" cy="1600200"/>
            </a:xfrm>
            <a:prstGeom prst="cube">
              <a:avLst>
                <a:gd name="adj" fmla="val 250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001120" y="3473280"/>
              <a:ext cx="1186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1400" y="327672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481640" y="2330280"/>
              <a:ext cx="815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20520" y="213372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dge(where two faces me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071880" y="3320640"/>
              <a:ext cx="51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3000" y="3397320"/>
              <a:ext cx="224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r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where three 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re edges me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Cub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968480"/>
            <a:ext cx="7853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8600" indent="-4086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a total of 11 distinct (different) nets for a cub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CubeNets"/>
          <p:cNvPicPr/>
          <p:nvPr/>
        </p:nvPicPr>
        <p:blipFill>
          <a:blip r:embed="rId2"/>
          <a:stretch/>
        </p:blipFill>
        <p:spPr>
          <a:xfrm>
            <a:off x="1143000" y="2895480"/>
            <a:ext cx="7010280" cy="3210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477120" y="457200"/>
            <a:ext cx="914400" cy="9907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Regular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62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ular pyram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trahedron - All faces are triang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 the third net for a regular pyramid (tetrahedr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2209680" cy="198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-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523880" y="3124080"/>
            <a:ext cx="25146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Square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20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quare pyram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ntahedron - Base is a square and faces are triang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SquarePyramid"/>
          <p:cNvPicPr/>
          <p:nvPr/>
        </p:nvPicPr>
        <p:blipFill>
          <a:blip r:embed="rId2"/>
          <a:stretch/>
        </p:blipFill>
        <p:spPr>
          <a:xfrm>
            <a:off x="5410080" y="3276720"/>
            <a:ext cx="2438640" cy="2228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219320" y="32767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ix possible nets for a square pyrami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4419720" cy="3272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Square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56:57Z</dcterms:created>
  <dc:creator>Department of IIT</dc:creator>
  <dc:description/>
  <dc:language>en-US</dc:language>
  <cp:lastModifiedBy>S6944451B</cp:lastModifiedBy>
  <dcterms:modified xsi:type="dcterms:W3CDTF">2008-07-01T07:22:46Z</dcterms:modified>
  <cp:revision>32</cp:revision>
  <dc:subject/>
  <dc:title>Implementing the 6th Grade GPS via Geometric Shapes</dc:title>
</cp:coreProperties>
</file>